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961-E355-4B53-AFC5-0E352727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CD9-4DFD-4B5A-BAE4-47C33CF1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2A3-A477-467E-8340-76A7580B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F77-1B48-4E67-8F43-253EE97C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A18-22F9-4ABC-B444-028CDDD3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224-9D6D-4D96-A5B5-391E57AA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F91-A6B7-4011-A4ED-B365785D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AC0-B67F-41AD-BB7C-7388458C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948-9507-4096-B292-0E660650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F91-591E-4F9B-916A-5F96D326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C7F-68CE-4BDE-BC69-278E1530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6DC-D7F8-442D-AFD9-9994D25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39DE-7939-4613-A4AE-DB58CD3E2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84/Tuchkov-4th_A_A_by_Daw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001.radikal.ru/0912/a2/05c4b2951fce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borodino.ru/picture/picture35.jpg?__CM3__CM3=9ri32cjgi8apbkn3omkfejtre2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justjesus.typepad.com/.a/6a012875d0457e970c0120a6d6ee71970b-800wi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8&amp;text=&#1076;&#1077;&#1088;&#1077;&#1074;&#1085;&#1103;%20&#1041;&#1086;&#1088;&#1086;&#1076;&#1080;&#1085;&#1086;%20&#1089;&#1077;&#1075;&#1086;&#1076;&#1085;&#1103;&amp;noreask=1&amp;img_url=img-fotki.yandex.ru/get/4418/42098347.e2/0_6a7f6_73b2a826_XL&amp;rpt=simage&amp;lr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dic.academic.ru/pictures/wiki/files/66/Borodino2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gala.com.ua/js/highslide/images/9785779305150-4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agios.itkm.ru/pics/8/2513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old.ch-lib.ru/general/biblio/activity/vov/img/rus3.jpg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shkolazhizni.ru/img/content/i42/42837_or.jpg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dic.academic.ru/pictures/wiki/files/82/Raevsky_saltanovka.jpg" TargetMode="External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hyperlink" Target="http://www.myjulia.ru/data/cache/2011/09/18/863950_2221nothumb500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aplakal.com/uploads/post-2-12325415717868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036.radikal.ru/1109/ad/a28e433a502e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upload.wikimedia.org/wikipedia/commons/thumb/1/12/Vereshagin.Napoleon_near_Borodino.jpg/350px-Vereshagin.Napoleon_near_Borodino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ljplus.ru/img4/p/r/pro100_mica/Otstuplenie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rsl.ru/dataphotos/5/5f/5f387d52a82b61fda811ea466e0278d5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old.ch-lib.ru/general/biblio/activity/vov/img/dur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24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c0000"/>
                </a:solidFill>
                <a:latin typeface="Arial"/>
              </a:rPr>
              <a:t>200-летию Отечественной войны посвящается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3886200"/>
            <a:ext cx="80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енадцатый год был великой эпохой в жизни России...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. Г. Белинский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Tahoma"/>
                <a:ea typeface="Tahoma"/>
              </a:rPr>
              <a:t>Никита Муравьев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67280" y="259920"/>
            <a:ext cx="4176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538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3a"/>
                </a:solidFill>
                <a:latin typeface="Calibri"/>
              </a:rPr>
              <a:t>В 1812 году против воли матери бежал из дом</a:t>
            </a:r>
            <a:r>
              <a:rPr b="1" i="1" lang="en-US" sz="2400" spc="-1" strike="noStrike">
                <a:solidFill>
                  <a:srgbClr val="00003a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00003a"/>
                </a:solidFill>
                <a:latin typeface="Calibri"/>
              </a:rPr>
              <a:t> на войну. За участие в Бородинской битве он был награждён золотым оружием, которое было вручено герою самим Кутузовым.</a:t>
            </a:r>
            <a:r>
              <a:rPr b="1" i="1" lang="en-US" sz="2400" spc="-1" strike="noStrike">
                <a:solidFill>
                  <a:srgbClr val="00003a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uploads.ru/i/T/K/q/TKqGa.jpg"/>
          <p:cNvPicPr/>
          <p:nvPr/>
        </p:nvPicPr>
        <p:blipFill>
          <a:blip r:embed="rId1"/>
          <a:stretch/>
        </p:blipFill>
        <p:spPr>
          <a:xfrm>
            <a:off x="4356000" y="260280"/>
            <a:ext cx="4191120" cy="623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000"/>
                </a:solidFill>
                <a:latin typeface="Verdana"/>
              </a:rPr>
              <a:t>Александр Алексеевич Туч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80000" y="272520"/>
            <a:ext cx="4906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34960"/>
            <a:ext cx="325116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3a"/>
                </a:solidFill>
                <a:latin typeface="Verdana"/>
              </a:rPr>
              <a:t>Сражался на Багратионовских флешах. В момент, когда бой принял опасный характер и солдаты Ревельского полка заколебались, Тучков схватил знамя 1-го батальона и бросился вперёд. Картечь сразила его на ме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-main-pic" descr="Картинка 1 из 1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6280"/>
            <a:ext cx="4875120" cy="566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Картинка 1 из 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549360"/>
            <a:ext cx="2381040" cy="2809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066920" y="475920"/>
            <a:ext cx="4825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3467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3a"/>
                </a:solidFill>
                <a:latin typeface="Tahoma"/>
                <a:ea typeface="Tahoma"/>
              </a:rPr>
              <a:t>В 1817 г. Маргарита Михайловна Тучкова, вдова генерала Александра Алексеевича Тучкова, погибшего в Бородинском сражении, исходатайствовала разрешение императора Александра I на сооружение храма на месте гибели ее мужа.  Император пожаловал на возведение храма 10 тыс. рублей. В 1818 г. церковь была заложена и в 1820 г. освящена архиепископом Августином во имя  Нерукотворенного Образа Спасител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Церковь Спаса-Нерукотворного Спасо-Бородинского монастыря 1818-1820 гг. Арх. неизвестен.">
            <a:hlinkClick r:id="rId3"/>
          </p:cNvPr>
          <p:cNvPicPr/>
          <p:nvPr/>
        </p:nvPicPr>
        <p:blipFill>
          <a:blip r:embed="rId4"/>
          <a:srcRect l="9735" t="0" r="29388" b="0"/>
          <a:stretch/>
        </p:blipFill>
        <p:spPr>
          <a:xfrm>
            <a:off x="4067280" y="549360"/>
            <a:ext cx="4871880" cy="575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Картинка 4 из 102"/>
          <p:cNvPicPr/>
          <p:nvPr/>
        </p:nvPicPr>
        <p:blipFill>
          <a:blip r:embed="rId5"/>
          <a:stretch/>
        </p:blipFill>
        <p:spPr>
          <a:xfrm>
            <a:off x="4067280" y="4149720"/>
            <a:ext cx="1747800" cy="215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b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c0000"/>
                </a:solidFill>
                <a:uFillTx/>
                <a:latin typeface="Verdana"/>
              </a:rPr>
              <a:t>Герои Отечественной войны 1812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-main-pic" descr="Картинка 36 из 905"/>
          <p:cNvPicPr/>
          <p:nvPr/>
        </p:nvPicPr>
        <p:blipFill>
          <a:blip r:embed="rId1"/>
          <a:srcRect l="18440" t="0" r="7806" b="0"/>
          <a:stretch/>
        </p:blipFill>
        <p:spPr>
          <a:xfrm>
            <a:off x="468360" y="1197000"/>
            <a:ext cx="4038480" cy="4968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43280" y="1268280"/>
            <a:ext cx="417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-main-pic" descr="Картинка 2 из 1233"/>
          <p:cNvPicPr/>
          <p:nvPr/>
        </p:nvPicPr>
        <p:blipFill>
          <a:blip r:embed="rId2"/>
          <a:srcRect l="0" t="7105" r="0" b="0"/>
          <a:stretch/>
        </p:blipFill>
        <p:spPr>
          <a:xfrm>
            <a:off x="4859280" y="1125360"/>
            <a:ext cx="2376720" cy="2606760"/>
          </a:xfrm>
          <a:prstGeom prst="rect">
            <a:avLst/>
          </a:prstGeom>
          <a:ln w="0">
            <a:noFill/>
          </a:ln>
        </p:spPr>
      </p:pic>
      <p:pic>
        <p:nvPicPr>
          <p:cNvPr id="92" name="i-main-pic" descr="Картинка 11 из 22410"/>
          <p:cNvPicPr/>
          <p:nvPr/>
        </p:nvPicPr>
        <p:blipFill>
          <a:blip r:embed="rId3"/>
          <a:stretch/>
        </p:blipFill>
        <p:spPr>
          <a:xfrm>
            <a:off x="6659640" y="2276640"/>
            <a:ext cx="2165400" cy="280188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89"/>
          <p:cNvPicPr/>
          <p:nvPr/>
        </p:nvPicPr>
        <p:blipFill>
          <a:blip r:embed="rId4"/>
          <a:srcRect l="3774" t="5492" r="13184" b="17617"/>
          <a:stretch/>
        </p:blipFill>
        <p:spPr>
          <a:xfrm>
            <a:off x="5148360" y="3691080"/>
            <a:ext cx="1944720" cy="247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Verdana"/>
              </a:rPr>
              <a:t>Денис Давы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11280" y="272520"/>
            <a:ext cx="4475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538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a"/>
                </a:solidFill>
                <a:latin typeface="Verdana"/>
              </a:rPr>
              <a:t>Денис Давыдов в 1812 году был командиром 1-го Ахтырского гусарского полка. Отряд Давыдова из 50 гусар и 80 казаков на конях налетал на тылы французов, на транспорты с продовольствием, с оружием, отбивал пленны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-main-pic" descr="Картинка 3 из 11071"/>
          <p:cNvPicPr/>
          <p:nvPr/>
        </p:nvPicPr>
        <p:blipFill>
          <a:blip r:embed="rId1"/>
          <a:stretch/>
        </p:blipFill>
        <p:spPr>
          <a:xfrm>
            <a:off x="4284720" y="260280"/>
            <a:ext cx="4464000" cy="595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Заголовок 4"/>
          <p:cNvGrpSpPr/>
          <p:nvPr/>
        </p:nvGrpSpPr>
        <p:grpSpPr>
          <a:xfrm>
            <a:off x="450720" y="268200"/>
            <a:ext cx="8242560" cy="5834160"/>
            <a:chOff x="450720" y="268200"/>
            <a:chExt cx="8242560" cy="5834160"/>
          </a:xfrm>
        </p:grpSpPr>
        <p:pic>
          <p:nvPicPr>
            <p:cNvPr id="99" name="Заголовок 4" descr=""/>
            <p:cNvPicPr/>
            <p:nvPr/>
          </p:nvPicPr>
          <p:blipFill>
            <a:blip r:embed="rId2"/>
            <a:stretch/>
          </p:blipFill>
          <p:spPr>
            <a:xfrm>
              <a:off x="450720" y="268200"/>
              <a:ext cx="8242560" cy="58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57200" y="274680"/>
              <a:ext cx="8229600" cy="58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3a"/>
                  </a:solidFill>
                  <a:latin typeface="Calibri"/>
                </a:rPr>
                <a:t>И если враг в слепой надежде</a:t>
              </a:r>
              <a:br>
                <a:rPr sz="4400"/>
              </a:br>
              <a:r>
                <a:rPr b="1" lang="en-US" sz="4400" spc="-1" strike="noStrike">
                  <a:solidFill>
                    <a:srgbClr val="00003a"/>
                  </a:solidFill>
                  <a:latin typeface="Calibri"/>
                </a:rPr>
                <a:t>Русь покорить, Русь покорить захочет вновь,</a:t>
              </a:r>
              <a:br>
                <a:rPr sz="4400"/>
              </a:br>
              <a:r>
                <a:rPr b="1" lang="en-US" sz="4400" spc="-1" strike="noStrike">
                  <a:solidFill>
                    <a:srgbClr val="00003a"/>
                  </a:solidFill>
                  <a:latin typeface="Calibri"/>
                </a:rPr>
                <a:t>Его погоним, как и прежде, давным-давно,</a:t>
              </a:r>
              <a:br>
                <a:rPr sz="4400"/>
              </a:br>
              <a:r>
                <a:rPr b="1" lang="en-US" sz="4400" spc="-1" strike="noStrike">
                  <a:solidFill>
                    <a:srgbClr val="00003a"/>
                  </a:solidFill>
                  <a:latin typeface="Calibri"/>
                </a:rPr>
                <a:t>Давным-давно, давным-давно!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ПОЛЕ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5366880"/>
            <a:ext cx="6985080" cy="10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26"/>
                </a:solidFill>
                <a:latin typeface="Calibri"/>
              </a:rPr>
              <a:t>Хочу в Москву войти. </a:t>
            </a:r>
            <a:br>
              <a:rPr sz="2400"/>
            </a:br>
            <a:r>
              <a:rPr b="1" i="1" lang="en-US" sz="2400" spc="-1" strike="noStrike">
                <a:solidFill>
                  <a:srgbClr val="000026"/>
                </a:solidFill>
                <a:latin typeface="Calibri"/>
              </a:rPr>
              <a:t>Все я сумею, все смету преграды на пут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justjesus.typepad.com/.a/6a012875d0457e970c0120a6d6ee71970b-800wi">
            <a:hlinkClick r:id="rId2"/>
          </p:cNvPr>
          <p:cNvPicPr/>
          <p:nvPr/>
        </p:nvPicPr>
        <p:blipFill>
          <a:blip r:embed="rId3"/>
          <a:srcRect l="6690" t="0" r="2993" b="0"/>
          <a:stretch/>
        </p:blipFill>
        <p:spPr>
          <a:xfrm>
            <a:off x="1763640" y="620640"/>
            <a:ext cx="5521320" cy="4157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b86e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im7-tub-ru.yandex.net/i?id=99052269-59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573360"/>
            <a:ext cx="3568680" cy="266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Деревня Бородино </a:t>
            </a:r>
            <a:br>
              <a:rPr sz="4000"/>
            </a:br>
            <a:r>
              <a:rPr b="0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и бородинское поле в наши д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-main-pic" descr="Картинка 17 из 67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700280"/>
            <a:ext cx="442584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-main-pic" descr="Картинка 21 из 5035">
            <a:hlinkClick r:id="rId2"/>
          </p:cNvPr>
          <p:cNvPicPr/>
          <p:nvPr/>
        </p:nvPicPr>
        <p:blipFill>
          <a:blip r:embed="rId3"/>
          <a:srcRect l="4434" t="8094" r="4848" b="7910"/>
          <a:stretch/>
        </p:blipFill>
        <p:spPr>
          <a:xfrm>
            <a:off x="395280" y="4052880"/>
            <a:ext cx="381636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i-main-pic" descr="Картинка 1 из 50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8360" y="333360"/>
            <a:ext cx="354492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i-main-pic" descr="Картинка 3 из 5036">
            <a:hlinkClick r:id="rId6"/>
          </p:cNvPr>
          <p:cNvPicPr/>
          <p:nvPr/>
        </p:nvPicPr>
        <p:blipFill>
          <a:blip r:embed="rId7"/>
          <a:srcRect l="0" t="0" r="0" b="2819"/>
          <a:stretch/>
        </p:blipFill>
        <p:spPr>
          <a:xfrm>
            <a:off x="4710240" y="333360"/>
            <a:ext cx="4047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i-main-pic" descr="Картинка 36 из 503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08360" y="2492280"/>
            <a:ext cx="2133720" cy="2109960"/>
          </a:xfrm>
          <a:prstGeom prst="rect">
            <a:avLst/>
          </a:prstGeom>
          <a:ln w="0">
            <a:noFill/>
          </a:ln>
        </p:spPr>
      </p:pic>
      <p:pic>
        <p:nvPicPr>
          <p:cNvPr id="54" name="i-main-pic" descr="Картинка 17 из 503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705640" y="4005360"/>
            <a:ext cx="3043080" cy="240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000"/>
                </a:solidFill>
                <a:latin typeface="Calibri"/>
              </a:rPr>
              <a:t>МИХАИЛ ИЛЛАРИОНОВИЧ</a:t>
            </a:r>
            <a:br>
              <a:rPr sz="2400"/>
            </a:br>
            <a:r>
              <a:rPr b="1" lang="en-US" sz="2400" spc="-1" strike="noStrike">
                <a:solidFill>
                  <a:srgbClr val="6c0000"/>
                </a:solidFill>
                <a:latin typeface="Calibri"/>
              </a:rPr>
              <a:t> КУТУЗ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55640" y="404640"/>
            <a:ext cx="4103640" cy="4322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5589360"/>
            <a:ext cx="7848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1e"/>
                </a:solidFill>
                <a:latin typeface="Calibri"/>
                <a:ea typeface="Arabic Typesetting"/>
              </a:rPr>
              <a:t>«С потерей Москвы не потеряна Росс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-main-pic" descr="Картинка 7 из 67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333360"/>
            <a:ext cx="4103640" cy="451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c0026"/>
                </a:solidFill>
                <a:uFillTx/>
                <a:latin typeface="Calibri"/>
                <a:ea typeface="Aharoni"/>
              </a:rPr>
              <a:t>Совет в Фил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-main-pic" descr="Картинка 3 из 13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628640"/>
            <a:ext cx="811368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15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15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115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115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-main-pic" descr="Картинка 1 из 2201">
            <a:hlinkClick r:id="rId1"/>
          </p:cNvPr>
          <p:cNvPicPr/>
          <p:nvPr/>
        </p:nvPicPr>
        <p:blipFill>
          <a:blip r:embed="rId2"/>
          <a:srcRect l="2220" t="0" r="2220" b="0"/>
          <a:stretch/>
        </p:blipFill>
        <p:spPr>
          <a:xfrm>
            <a:off x="1116000" y="765000"/>
            <a:ext cx="7056360" cy="529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350px-Vereshagi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692280"/>
            <a:ext cx="8713800" cy="570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Картинка 1 из 11981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765000"/>
            <a:ext cx="8713800" cy="552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Calibri"/>
              </a:rPr>
              <a:t>НИКОЛАЙ НИКОЛАЕВИЧ </a:t>
            </a:r>
            <a:br>
              <a:rPr sz="2800"/>
            </a:br>
            <a:r>
              <a:rPr b="1" lang="en-US" sz="2800" spc="-1" strike="noStrike">
                <a:solidFill>
                  <a:srgbClr val="6c0000"/>
                </a:solidFill>
                <a:latin typeface="Calibri"/>
              </a:rPr>
              <a:t>РАЕ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6"/>
                </a:solidFill>
                <a:latin typeface="Tahoma"/>
                <a:ea typeface="Tahoma"/>
              </a:rPr>
              <a:t>Покрыл себя славой в Бородинской битве, защищая важный редут - узел русской обороны, названый в его честь "Батарея Раевского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-main-pic" descr="Картинка 1 из 5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7760" y="333360"/>
            <a:ext cx="5087880" cy="583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Tahoma"/>
                <a:ea typeface="Tahoma"/>
              </a:rPr>
              <a:t>Надежда Дур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1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3a"/>
                </a:solidFill>
                <a:latin typeface="Tahoma"/>
                <a:ea typeface="Tahoma"/>
              </a:rPr>
              <a:t>В один прекрасный день, переодевшись, выдала себя за мужчину и поступила на военную службу.  С первого дня войны находилась в строю, была участницей восьми сраж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-main-pic" descr="Картинка 2 из 24">
            <a:hlinkClick r:id="rId2"/>
          </p:cNvPr>
          <p:cNvPicPr/>
          <p:nvPr/>
        </p:nvPicPr>
        <p:blipFill>
          <a:blip r:embed="rId3"/>
          <a:srcRect l="0" t="0" r="0" b="4214"/>
          <a:stretch/>
        </p:blipFill>
        <p:spPr>
          <a:xfrm>
            <a:off x="3851280" y="260280"/>
            <a:ext cx="4608360" cy="606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4:29:58Z</dcterms:created>
  <dc:creator>Т</dc:creator>
  <dc:description/>
  <dc:language>en-US</dc:language>
  <cp:lastModifiedBy>ushaki</cp:lastModifiedBy>
  <dcterms:modified xsi:type="dcterms:W3CDTF">2012-03-19T08:13:36Z</dcterms:modified>
  <cp:revision>43</cp:revision>
  <dc:subject/>
  <dc:title>наполеон</dc:title>
</cp:coreProperties>
</file>